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C9DC-95F5-480A-980B-21367FD73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9A76-62C6-4A4F-ADD7-ED69AFB13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1F8D-17F5-4B85-AAF5-534128DE3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83AF-8253-4642-ABD9-44E47554A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6C35-7881-4BB4-A317-A49B95C8F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7994-38E3-4BC2-B66F-DFA235493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DD3B-E987-4D5E-A1E7-944F375BE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8945-E6DB-4197-99DD-A6BBF78AD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C5BF-F388-4431-8E70-C2D559C85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BA85-FE98-478E-AFAA-1DD23AD42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9327-10A8-4375-9599-85265486F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F0F6-7FD0-4FD4-B7E0-24BEB8056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BC36-50FF-4C73-A395-F2C3332041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FT 6  - 28 JAN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59080"/>
            <a:ext cx="8458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MAİL YA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TEB YÖNETİM KURULU ÜYES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yanik@teb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819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13 NİSA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81A4-E2F2-4E39-95E7-154AB4BD75B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syonel risk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içi kontrollerdeki aksamalar sonucu hat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ulsüzlükler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zden 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yönetimi ve personel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 ve k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lara 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reket edilememesinden, ban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önetimindek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ardan, bilgi teknoloji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deki hata ve aks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deprem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, sel gibi felaketler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 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üreçlerinde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hata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sonuna -de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ilmesin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ihai ta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ç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- kadar her 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çt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, noksan veya kaç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cu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 risk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Bilgi sistemlerinde hata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eknoloji veya 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 seçimi , siste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me ve uygulam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hardware, software, networ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yüz uygul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ş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t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za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nsandan kaynaklanan riskler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, personel suistimali, personel hat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kisiz faaliyet, onay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 ve personel yetersiz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veya kil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el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cak zarar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o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l afet ve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dı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faktörlerden kaynaklanan riskler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rem, 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,sel gib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fetler ile ile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, u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ım ve enerji alt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an sorunl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zarar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u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F3BA-A883-4422-A5BF-E6DBC73637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üzenlemelere uyulmam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evzuat hükümlerine ve kanunlar ile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üzenleme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ümlülüklere,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iç mevzuat hükümlerine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abul görmü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allara uyu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onucu orta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resm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rciler 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verilen faiz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 cez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iş koluna getirilen yasak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amalar ile zorunlu düzeltme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iyeti nedeni ile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Mevzuata ilişkin yetersiz bilgi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tarafından yetersiz ya da yan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lgeye dayanarak yapılabilecek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 neticesinde ha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klenenden d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klerin ise beklenenin üzer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Vergi riski 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rgi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ay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ya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bilonço pozisyonund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resmi mercilerce talep edilebilecek ek vergi ve vergi cez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tiba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aliyetlerindeki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ya da mevcut yasal düzenlemeler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v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ticesinde bankaya duyulan güvenin aza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tib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zedelenme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Yasal risk ve yükümlülük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ca taraf olun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de eksi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da 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ersiz hükümler ve uygulama usulleri bulun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a yasal 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p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da bulunu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üçüncü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rin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n taleplerinde yeterli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ya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bulunamaması nedeniyle zarara uğ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37AB-8EFF-494C-80C0-23AAAACC03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Güvenlik riski 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zaen veya 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r eylem sonucu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sahip olduğ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nin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gizlili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ütünlük ve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uluk veya kul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l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bilir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yitirilmes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sayan bilgi sistemleri ve fizikse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üvenlik risk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C9A73-05DE-4744-A2ED-03E4AF1E52B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7016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TEMEL İLKE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CFF7-7ADC-40C0-A7BB-8AFE6507D8A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709640"/>
            <a:ext cx="7772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KURUM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tratej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olitik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Yönetim Kültür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üm çalışanlarca bilinmeli ve benimsenmeli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0A5E-CF0F-4931-8D77-B5A497AFBFD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0172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ffff"/>
                </a:solidFill>
                <a:latin typeface="Arial"/>
              </a:rPr>
              <a:t>Yönetimin 1’nci sorumluluğu kurumun riskini yönetecek kişileri eğitmek, geliştirmek, yönlendirmek ve desteklemek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9353-1419-4482-B82F-08D727578E7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3276720"/>
            <a:ext cx="4819680" cy="2476080"/>
            <a:chOff x="1752480" y="3276720"/>
            <a:chExt cx="4819680" cy="2476080"/>
          </a:xfrm>
        </p:grpSpPr>
        <p:sp>
          <p:nvSpPr>
            <p:cNvPr id="139" name=""/>
            <p:cNvSpPr/>
            <p:nvPr/>
          </p:nvSpPr>
          <p:spPr>
            <a:xfrm>
              <a:off x="2912400" y="3782160"/>
              <a:ext cx="2483640" cy="15177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247360"/>
              <a:ext cx="1427400" cy="50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8440" y="3276720"/>
              <a:ext cx="1427400" cy="50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760" y="5247360"/>
              <a:ext cx="1427400" cy="50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76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Pazarlama / Haz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Opera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334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K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5A81-F729-4BEB-9FEA-DACC91CF67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73392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yat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581280"/>
            <a:ext cx="2438640" cy="1524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AED5-BA04-44F0-BADF-8C79BED6B8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6688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icari Portfö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514600"/>
            <a:ext cx="24386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tır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ortföy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429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19360" y="31240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343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Piyasa fiyatına göre değerleme  (M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522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CAA6-F166-48B5-B04D-5BEC42DBB5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79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Müşteri segmen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Sektör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Bölg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İN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AĞITILM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8D67-C60D-4B42-B2B9-5079F1ACA8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ANKAMIZIN HEDEF ve AMAÇLARINA ULAŞMASINI ETKİLEYEN HER TÜRLÜ UN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19CC-0441-4D4E-82D4-60F4372B5A8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13048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redi / Karşı taraf risk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Ülke / Bölge / Sektör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ap Limitleri (Faiz ri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Likidite rasyo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RİSKİ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LİMİTLENMES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38C8-5D71-456B-8397-39C6746DE43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04920"/>
            <a:ext cx="60958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77724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ari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Hedef müşt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kontrol nokt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Geti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perasy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Muhaseb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8440" y="43344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RÜN EL KİTAP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AEA1-9609-4C7B-A93A-231733B27A6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46240"/>
            <a:ext cx="853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DÜRÜSTLÜ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Aklımızı kullanarak hareket etm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Risk alanların tecrübe ile gelişen yeteneğ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Ç ANA UNS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0B38-8502-4698-99C9-83BE84075C8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152280"/>
            <a:ext cx="4343400" cy="16002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elefon             Teleks              Re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sayar teknolojilerinin gelişmesi sonucu hesaplama          ve bilgiye ulaşma maliyetlerinin ucuz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78            $ 500        M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---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610F-756D-4D1B-97BC-E064C97B01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84  Reuters  Green Monitor   $ 50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ha fazla bilgi                          $  5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2247-3293-4AF5-9F79-4D9C5A6297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/Intranet’in yayı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i oluşturan bilgilerin konsolidasy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İşlem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Kur/faiz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Diğer piyasa ver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Müşteri bilg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B9D0-22EF-42A9-A9C7-B5EB82549A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ylık             Haftalık            Günlük          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15B8-4DB7-43B0-9784-F2692C1478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ra Piyasa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azine bonosunun ilk defa repolanması (19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bilançolarında yoğunlaş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Hazine Bo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Euro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bancı piyasaların ilgisi/etk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04920"/>
            <a:ext cx="4343400" cy="12189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ÜRKİ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PİYA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1258-04F3-4187-ACED-6FBCBF847B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mendment to the 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isan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İç Denetim ve Ri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mi Sistemleri Hakkında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Sermaye Yeterliliğinin Ölçülmes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ve Değerlendirilmesine İlişkin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2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52280"/>
            <a:ext cx="48006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KANUN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ÜZENLE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7364-C367-481F-B750-F712B4A8D3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320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DDK tarafından yayımlanan 8 Şubat 2001 tarihli “Bankaların İç Denetim ve Risk  Yönetimi Sistemleri Hakkındaki Yönetmelik Bankalarda aşağıda belirtilen alanlarda değişiklik yara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476520"/>
            <a:ext cx="4953240" cy="1828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386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Yönetim Kuruluna İlave Sorumlul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26708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uvvetler Ayrılığı İlkesinin Daha Etkin Uygu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410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Piyasa ve Kredi Riski Yöneti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6840" y="28954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rganizasyon Yapısında Değişik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880" y="297180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aha Etkin İç Kontrol Sist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İlave Raporlama ve Bildirim Yükümlülüğ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933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Banka Risklilik Düzeyinin Belirlenmesi, Bankanın Temel İşlevsel Faaliyet Alanlarının Özel Kontrol Ve İnceleme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4C42-9B72-4FA2-A133-DA5475BA885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743200"/>
            <a:ext cx="190476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üşteril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r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743200"/>
            <a:ext cx="19814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743200"/>
            <a:ext cx="2133360" cy="1752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arıl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cıl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A9B2-E5A2-498D-B2AA-EE7005064C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nın oluşturul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Faaliyetlerin risklilik düzeyinin değer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cil ve beklenmedik durum planı uygula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iyasa riskinini ölçülmesi (Standart metod yada VaR) (1.1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anka iştiraklerinin risk yönetiminde dikkate alınması (1.7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IS-TR  (28.02.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3E4B-F293-4E52-9F17-D6EF16997C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azine  pozisyonlarından (trading book) bir günlük elde tutma süresi ve belli bir güven aralığında - %99 – olasılıkla kaybedilecek en yüksek tutar (TL veya US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98D0-AC8A-4F8C-8CCF-B1F7611758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 Yönetim Arac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Yönetimini, Resmi Otoriteyi ve Piyasayı Bilg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erformans Ölçü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imit Tahsis / İz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291E-0CD7-4C15-87C3-ADA3F030AC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arsayımsal veya gerçekleşmiş olay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ğanüstü fiyat değişiklik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portföyüne uygun senary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prem - Kasım - Şubat - Irak kr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y ve parametre seç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ngörü ve tecrü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920"/>
            <a:ext cx="487692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tres Tes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enaryo Anal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5903-D63F-4626-B5DC-C2F29AF887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56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iz oranlarına paralel-non paralel şok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 şok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urasyon – gap anal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UYARLILIK  DURAS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8C08-FBAE-4EB0-A23A-FF7E9C3A2DD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iştah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cc66"/>
                </a:solidFill>
                <a:latin typeface="Arial"/>
              </a:rPr>
              <a:t>İhtiyaçlar önceden tespit edilm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nokta/sevi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ürün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ilanço hassasiy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DFA7-B6FA-4241-890B-7D97A11399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İnsana yatırım önceliğ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Bilinçlendir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80880"/>
            <a:ext cx="4343400" cy="1219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5702-8DC5-4B11-95C6-792DB7D121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Bilgi İşlem Altyapı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taylı Anal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Risk Yönetimi          Hazırlık          Data topl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91BF-2EA1-4B20-8CE4-A85D885E57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okal destek sağla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rk piyasalarının özelliklerine (Volatilite, veri eksikliği v.b.) uygun sentez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now-how kurum içinde içselleştir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23AC-C401-4F43-BDEE-71C26A1E0A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Risk Yöneticisinin rol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İcraya karışacak mı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adece karar desteğ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urtdışı örnek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DD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8088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ABB2-BBBE-439A-8803-CA3087659E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K, kurumlarında etkin bir Risk Yönetimi olduğundan emin olmak 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00"/>
                </a:solidFill>
                <a:latin typeface="Arial"/>
              </a:rPr>
              <a:t>NEDE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urumlar değişir (kişiler ve yapı olarak) bu değişim geleneksel kontrollerin değişmesine genellikle atlanmasına sebep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ni teknoloji beraberinde yeni riskler getir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emler giderek daha karmaşık yapılar içerir     (türev ürünler, stru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asıtlı hata veya ihmal bir çok kurum için hala problem teşkil ed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tratejik hata maliyetleri arttırı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ontrol aksaklıkları kurumu önemli derecede et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880"/>
            <a:ext cx="64008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YK – RY BAKIŞ AÇ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BDDF-32BE-4ED8-A58A-42003C65A3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Yönetiminin önem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Üst Yönetimin bilgilendirilmesi/bilinç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andart Met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Yeterli m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Doğru data (Garbage in /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ğru çözüm her zaman pahalı değil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lack Box çözüm yo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 bir yaşam biçimi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60948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7200" y="5867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 II YAK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A47A-9AE3-4788-929C-C0943B18763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4 Orange County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ructured Securities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1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5 Barings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ikkei  Future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6 Sumitomo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Yetkisiz Pozisyon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2002 Allied Irish 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Currency Option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808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ÜYÜK KAYIP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E415-7DC6-470B-B37C-92A5A43BA4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91120" y="2511360"/>
            <a:ext cx="618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TEMEL RİSK TANI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E697-F65F-456F-84CA-EEB6C41DE2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ratej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Seçilen uygulama ve kararlar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,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lu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r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linde meydana gelen dönemsel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 veya teknoloji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tices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red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m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isinin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gereklerine uymay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veya tamamen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ememesinden dol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tı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ik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deki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dan kaynaklan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e i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n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aksak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u aksaklıkları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ik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zerindeki etkilerinden kaynaklanan 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Ülk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de, krediyi alan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aliyette bulunduğ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lkenin ekonomik, sosyal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k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 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tamam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ilememesi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2871-6CEB-45B9-BD71-0888253F9F6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5335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amamas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raftan, umulan süre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nu finansal ara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da fonu (nakdi) teslim a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l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dememesi durumun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ma öncesi olu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n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i yapan taraflardan birinin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s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e,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deki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yerine getiremey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nsfe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yi alan kiş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bulund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ülkenin ekonom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rum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döviz borcunun ay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ürde veya konvertib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döviz ile g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n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aiz oran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iz oranlarındaki hareketler nedeniyle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ozisyo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maruz kalabil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zarar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07DD-8544-4AC0-9EE3-8ED36E8284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5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engesizlik sonucunda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çık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m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yacak düzeyde ve nitelikte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cud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sahi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ulun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iyasaya gerek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gibi girememesi, ba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ünlerdeki 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iyasa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piyasalar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geller ve bölünmel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zisyon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gun bir fiyatta, yeterli tutarlarda ve 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at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pozisyonlardan çık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nda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zar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onlam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üzensizlikle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adey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umsuzlu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nlama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maku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maliye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potansiyel olarak yerine getir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lanço içi ve bilanço 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esaplarda bankalarca tutul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larda finansal piyasada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lgalanmalardan kaynaklan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iz, kur ve hiss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 fi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ine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faiz o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iski, hiss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 risk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 riski gibi riskler nedeniyle zarar et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CFF5-1DC4-4B90-AC95-E1B6B4BFACE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9:07:35Z</dcterms:created>
  <dc:creator>Robert Fleming &amp; Co Limited</dc:creator>
  <dc:description/>
  <dc:language>en-US</dc:language>
  <cp:lastModifiedBy>krandaa</cp:lastModifiedBy>
  <cp:lastPrinted>2000-01-26T21:41:00Z</cp:lastPrinted>
  <dcterms:modified xsi:type="dcterms:W3CDTF">2004-04-26T14:07:19Z</dcterms:modified>
  <cp:revision>438</cp:revision>
  <dc:subject/>
  <dc:title>No Slide Title</dc:title>
</cp:coreProperties>
</file>